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248-C9DE-4AEC-A707-045C8C4E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E59-AFBA-4A39-8A2A-4163D088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934-02A8-4C55-AD39-4C75E622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2B2-F112-409D-9C35-845A1123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560-ED8B-494E-9914-1D649D0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ACB-B800-422F-8593-81D38723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DD4-FE27-4501-B5C3-6AF4AC38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CBA-B0D8-4EA0-955A-B6D3E185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123-33FE-4299-8657-581A8FA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562-E2DA-45C1-BA04-DD97CB5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F31-EC3D-4415-81F7-B1E9B886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7CC-35A7-4AF7-AC4D-6644EF1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E82E-0A0B-4277-A108-6913CF894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rubik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480060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 Hens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17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0mputer #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1285600">
            <a:off x="1142640" y="1142640"/>
            <a:ext cx="51055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ubik's Cub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4800600"/>
            <a:ext cx="4114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tween The Bookshelv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b. 27, 2012, www.freeplaymusic 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Safar"/>
          <p:cNvPicPr/>
          <p:nvPr/>
        </p:nvPicPr>
        <p:blipFill>
          <a:blip r:embed="rId1"/>
          <a:srcRect l="68609" t="0" r="0" b="-1771"/>
          <a:stretch/>
        </p:blipFill>
        <p:spPr>
          <a:xfrm rot="516000">
            <a:off x="2819160" y="2209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Safar"/>
          <p:cNvPicPr/>
          <p:nvPr/>
        </p:nvPicPr>
        <p:blipFill>
          <a:blip r:embed="rId2"/>
          <a:srcRect l="0" t="0" r="49302" b="0"/>
          <a:stretch/>
        </p:blipFill>
        <p:spPr>
          <a:xfrm rot="21114600">
            <a:off x="228600" y="228240"/>
            <a:ext cx="2743200" cy="166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47242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bik's Cub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3, 20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rubi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7621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bik’s Cube is used in fields such as physics and group the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a5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Rubik's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ossible alignments is in the multi mil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even books offering possibl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81 demand outgrew supply for the puzz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100 million had been sol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be is even used in fields such as physics and group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c6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rno Rub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o Rubik was born in Budapest in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ather was an engineer and a glider de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other was a writer and an 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teacher at the academy of Applied arts and C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atented the Rubik's cube in 1975 calling it the Magic Cu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6Z</dcterms:created>
  <dc:creator>install</dc:creator>
  <dc:description/>
  <dc:language>en-US</dc:language>
  <cp:lastModifiedBy>install</cp:lastModifiedBy>
  <dcterms:modified xsi:type="dcterms:W3CDTF">2012-03-09T15:00:43Z</dcterms:modified>
  <cp:revision>7</cp:revision>
  <dc:subject/>
  <dc:title>Slide 1</dc:title>
</cp:coreProperties>
</file>